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FF6A58-6CCE-42C5-BF4A-2AEE60CDC7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7D02EB-8248-4F37-ACE3-D851198F38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ere is a simple organization of what the different parts of the expectation might b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F29B4C-595E-4EC9-9051-D23A835D3B8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were designed around the theories of Problem-based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24C227-1D97-42BC-8F48-5519BE884E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view the purpose of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1E8819-4EBE-47FC-9061-540AFB9459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text is important, we bring a different prior knowledge into starting the con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re and how you introduce the context is important to students and how the task is started and developed therefore what is the implication for this in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piece of the curricul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AAB7D6-2905-44CA-A8EC-1A51F06970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are designed and how the sample issues and questions are there for the jumping off point but are just like examples and not manda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so talk about how most of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have an environmental focus to lead to thinking about their impact on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4DC28E-E86B-40FA-90EA-189B4B7A61F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ing this expectation, I have deconstructed it to show what areas I need to focus on and what some of the skills are to teach the students so that they can attain the expec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22A-6A08-4F76-9BC9-E43A2717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771-E0FB-4E4B-8ED9-243CC63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CEE-F26C-4E31-B8E5-218ED557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D12-53AC-4611-B026-2E9505B4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F58-3359-40C0-9ECE-AA12C18E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345-014E-4D18-8151-E07B945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703-FFCF-4689-B5F5-5F78B58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3DF-F382-421B-B353-42DB12F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E9B-4EE1-4BA4-9584-3B2B94AB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7DF-1BEC-4EA0-87CA-9E91FF4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76F-7A6A-45CB-B7AF-CF9D9F5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FFB-3208-4EF2-A5A7-B5909FB4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03640" y="5516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68F7-2EFF-40D8-8B9A-A01D2FAC66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883120"/>
            <a:ext cx="914400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F895-CDA3-471C-B9FB-1337297F5C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258920" y="34290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Arial"/>
              </a:rPr>
              <a:t>Science Grades  9-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641-F7D8-41A4-AF77-8018C984B5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684360" y="1844640"/>
            <a:ext cx="179856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e 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4596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ion Temp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7921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4604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3348000" y="2997360"/>
            <a:ext cx="2376360" cy="158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64000" y="35002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doni"/>
              </a:rPr>
              <a:t>S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6372360" y="1989000"/>
            <a:ext cx="179856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itiativ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971640" y="1916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516720" y="2205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684360" y="4149720"/>
            <a:ext cx="201600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ssues of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900000" y="429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6516720" y="4005360"/>
            <a:ext cx="1798560" cy="154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ffectiveness of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6804000" y="4076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2627280" y="3141720"/>
            <a:ext cx="719280" cy="398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5651640" y="4221000"/>
            <a:ext cx="718920" cy="398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 flipV="1">
            <a:off x="2843280" y="4436640"/>
            <a:ext cx="647640" cy="405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 flipV="1">
            <a:off x="5724360" y="3141720"/>
            <a:ext cx="648000" cy="404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446-864C-470E-99C9-F3FF6D9440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ing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In your subject group pick any overall or a specific STSE expec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Using the deconstructing template, place the expectation in the middle and brainstorm the different parts of the expect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4394230000[1]"/>
          <p:cNvPicPr/>
          <p:nvPr/>
        </p:nvPicPr>
        <p:blipFill>
          <a:blip r:embed="rId1"/>
          <a:stretch/>
        </p:blipFill>
        <p:spPr>
          <a:xfrm>
            <a:off x="7451640" y="4724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812-0784-4122-B4B1-7A927C59D5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genda-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urpose of the STS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 using the STS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F9C4-880B-4127-8A3C-C9FA474BA9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TSE deconstruction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EFDB-A636-4874-B330-F2CE01429F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velopment of ST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are presented with a specific practical, real, or hypothetical problem (or set of problems) to sol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s are defined as having no specific correct solution, requiring knowledge construction on the part of the students, and requiring sustained attention beyond a single lesson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blems as Possibilities: Problem-Based Learning for K-16 Education; AS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711-70AF-40A2-9938-A85F32ABFD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Purpose of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examining a variety of current world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und scientific knowledge  in the realities of thes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able students to develop a deep understanding of the connections between science, technology, society and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stude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bilities to make informed decisions, and to take responsible action to address issues arising from the impact of science and technology on the environment and in their daily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9A6-7625-42A6-B556-64BED4C77B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 Are Designed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et the context for learning for each grade level and subj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 previously acquired knowledge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85D-C882-4FD7-BFFE-2C841F9C5F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tructure of the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167000" cy="46818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6948360" y="2060640"/>
            <a:ext cx="1656000" cy="792000"/>
          </a:xfrm>
          <a:prstGeom prst="wedgeRoundRectCallout">
            <a:avLst>
              <a:gd name="adj1" fmla="val -109731"/>
              <a:gd name="adj2" fmla="val 19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ecific Expec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659640" y="3213000"/>
            <a:ext cx="2016000" cy="792360"/>
          </a:xfrm>
          <a:prstGeom prst="wedgeRoundRectCallout">
            <a:avLst>
              <a:gd name="adj1" fmla="val -76930"/>
              <a:gd name="adj2" fmla="val -53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oad Areas of Skills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95280" y="2205000"/>
            <a:ext cx="1368360" cy="792360"/>
          </a:xfrm>
          <a:prstGeom prst="wedgeRoundRectCallout">
            <a:avLst>
              <a:gd name="adj1" fmla="val 116356"/>
              <a:gd name="adj2" fmla="val 108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mpl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684360" y="4365720"/>
            <a:ext cx="1511280" cy="718920"/>
          </a:xfrm>
          <a:prstGeom prst="wedgeRoundRectCallout">
            <a:avLst>
              <a:gd name="adj1" fmla="val 78569"/>
              <a:gd name="adj2" fmla="val -30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mp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257-5CDC-426C-9691-009CBC7CD0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to do with ST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197000"/>
          <a:ext cx="8229600" cy="4329000"/>
        </p:xfrm>
        <a:graphic>
          <a:graphicData uri="http://schemas.openxmlformats.org/drawingml/2006/table">
            <a:tbl>
              <a:tblPr/>
              <a:tblGrid>
                <a:gridCol w="1008000"/>
                <a:gridCol w="72216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the context using the ST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e a question or issue to ans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2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acquire the knowledge and skills to help answer the question or is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portfolio, journal, notebook as information to answer question or is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minating 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the question or issue based on knowledge and skills gather throughout the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209-3094-4B05-AB9E-C21419BC00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ed ST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lating Science to Technology, Societ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D1.2 assess,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on the basis of research</a:t>
            </a:r>
            <a:r>
              <a:rPr b="0" lang="en-CA" sz="2400" spc="-1" strike="noStrike">
                <a:solidFill>
                  <a:srgbClr val="fea0ec"/>
                </a:solidFill>
                <a:latin typeface="Arial"/>
              </a:rPr>
              <a:t>,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the effectiveness of some current individual, regional, national, or international initiatives that address the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issues of climate change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(e.g., Drive Clean, ENERGY STAR, federal and provincial government rebates for retrofitting older buildings to be more energy efficient, carbon offset programs, community tree-planting programs, municipal recycling programs, Intergovernmental Panel on Climate Change [IPCC]), and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propose a further course of action related to one of these initiatives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3:32:11Z</dcterms:created>
  <dc:creator>Jill Snider</dc:creator>
  <dc:description/>
  <dc:language>en-US</dc:language>
  <cp:lastModifiedBy>Cheryl Madeira</cp:lastModifiedBy>
  <dcterms:modified xsi:type="dcterms:W3CDTF">2011-12-06T14:31:03Z</dcterms:modified>
  <cp:revision>174</cp:revision>
  <dc:subject/>
  <dc:title>Slide 1</dc:title>
</cp:coreProperties>
</file>